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314-9C88-4D88-9B7B-35069E73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F74-EDC8-480C-9159-3EB75F33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AE5-0694-4E36-B706-5B5B6FBE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BC3-0612-4E1D-B557-7FAFF4E4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009-39B6-4347-B33E-7C4737FA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756-76B4-4186-BE0E-F858D58A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7CE-2B1A-4133-86DD-99CA7A35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22E-6A54-41D1-B918-3A44E8F3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DCE-18D6-4874-A48B-20CC467B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AB4-BE5E-4266-80E1-986EDA96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1ED-4F7E-40CF-88B0-01FDAFE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1E2-4CC9-4CDE-9827-C9E36E4C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8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B206-0B05-44BD-A77B-8A24EC557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47628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1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Выбрат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итательные ве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ы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роженое. 2. Лимон. 3. Жирные кислоты. 4. Нуклеиновые кислоты. 5. Углеводы. 6.Хлеб. 7. Треска. 8. Сливочное масло. 9. Белки. 10. Глицерин. 11. Картофель. 12. Мясо. 13.Минеральные соли. 14. Аминокислоты. 15.Глюкоза. 16. Колбаса. 17. Ж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2. Установить последователь-ность органов пищеварительной сис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желудок, б) толстая кишка, в) ротовая полость, г) тонкая кишка, д) пищевод, е) гл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87280" y="47628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Регуляция слюноот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14200" y="1071720"/>
            <a:ext cx="871560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ояни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ств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покоя ежеминутно выделяются около 0,5 мл слюны, в основном слизистого тип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сна секреция значительно уменьш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ие вкусовые стимулы, особенно кислый вкус (вызванный кислотой), приводят к обильной секреции слюн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гда человек нюхает или ест любимую пищу, слюноотделение более выражено, чем при нелюбимой пи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765000"/>
            <a:ext cx="727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… </a:t>
            </a: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Ещё в Древней Индии применяли “испытание рисом”. На суде для решения вопроса о виновности или невиновности подсудимому предлагали съесть сухой рис. Если он его съест, значит, он не виновен, если нет, то виновен.</a:t>
            </a: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71680" y="7858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рвничает, находится в стрессе, то у него "пересыхает" во рту, переработать рис без слюны не 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 виновен и спокоен, процесс слюноотделения нормальный, рис смачивается слюной и проглатывается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2205000"/>
            <a:ext cx="77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ханическое измельчение пищи (язык, зу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разование пищевого комка (слюна, язы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астичное расщепление углеводов (ферменты слюн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7440" y="47628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Этапы расщепления ве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в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4360" y="620640"/>
          <a:ext cx="7848360" cy="573084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итатель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дукты п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рные кислоты. 4. Нуклеиновы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глевод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Бел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лицерин. 13.Минер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Аминокислоты. 15.Глюко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Жи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жено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Хлеб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Трес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Сливочное мас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Картофел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Мяс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Колбас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Органы пищеваритель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пищеварительная система"/>
          <p:cNvPicPr/>
          <p:nvPr/>
        </p:nvPicPr>
        <p:blipFill>
          <a:blip r:embed="rId1"/>
          <a:stretch/>
        </p:blipFill>
        <p:spPr>
          <a:xfrm>
            <a:off x="971640" y="1413000"/>
            <a:ext cx="4321080" cy="4103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94036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1200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4960" y="35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0236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1200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2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203280" y="162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 flipV="1">
            <a:off x="3276720" y="2852640"/>
            <a:ext cx="273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3564000" y="3789360"/>
            <a:ext cx="25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3276720" y="4581360"/>
            <a:ext cx="2735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3492000" y="5229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H="1" flipV="1">
            <a:off x="3203640" y="1915920"/>
            <a:ext cx="26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24210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_BodoniNova"/>
              </a:rPr>
              <a:t>Пищеварение в ротовой пол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620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внутреннее строение зуба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32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Гигиена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16360" y="2276640"/>
            <a:ext cx="3961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о болезней входит через рот”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чистка зубов"/>
          <p:cNvPicPr/>
          <p:nvPr/>
        </p:nvPicPr>
        <p:blipFill>
          <a:blip r:embed="rId1"/>
          <a:stretch/>
        </p:blipFill>
        <p:spPr>
          <a:xfrm>
            <a:off x="611280" y="1197000"/>
            <a:ext cx="3446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люнные железы"/>
          <p:cNvPicPr/>
          <p:nvPr/>
        </p:nvPicPr>
        <p:blipFill>
          <a:blip r:embed="rId1"/>
          <a:stretch/>
        </p:blipFill>
        <p:spPr>
          <a:xfrm>
            <a:off x="1785960" y="1071720"/>
            <a:ext cx="55926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0000" y="5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212006\img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6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58920" y="47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Органические вещества входящие в 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1844640"/>
            <a:ext cx="74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. Муцины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сложные белки, содержащие полисахариды, они придают слюне вязкость и клейкость, способствуют смачиванию и склеиванию пищевого комка и облегчают его проглаты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Лизоци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бивает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3. Амилаз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является гидролитическим ферментом и расщепляет молекулы крахмала и гликогена с образованием мальтозы и сахар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20Z</dcterms:created>
  <dc:creator>Chip</dc:creator>
  <dc:description/>
  <dc:language>en-US</dc:language>
  <cp:lastModifiedBy>Александр</cp:lastModifiedBy>
  <dcterms:modified xsi:type="dcterms:W3CDTF">2012-04-02T18:12:16Z</dcterms:modified>
  <cp:revision>12</cp:revision>
  <dc:subject/>
  <dc:title>Слайд 1</dc:title>
</cp:coreProperties>
</file>